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110-F361-4995-89CA-1F223706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3D4-D4D4-4A87-9457-6903BF0E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376-BB11-4E35-92D3-3F721EA1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855-862B-489E-AF71-15C13286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E54-EA5D-490D-8C54-0CC08BAF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061-BD32-4F08-9700-9F9D3225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BA3-7F98-42E8-8697-8326B078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F6A-8486-4DFF-BEA2-A267823E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9A6-8788-4C21-ABD5-4D1FBE5D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060-182F-4975-BDD9-0CC43D26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1EC-AF4A-4BDD-8C76-29F4A47A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648-D613-4BEC-A9F0-38DEFA7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5D32-093F-4D6D-B26D-298591DF8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bertencyclopaedia.com/j/Daniel%2520Webster.jpg&amp;imgrefurl=http://www.probertencyclopaedia.com/C4.HTM&amp;h=299&amp;w=200&amp;sz=16&amp;tbnid=oeqeYJj69uMJ:&amp;tbnh=111&amp;tbnw=74&amp;start=7&amp;prev=/images?q=daniel+webster&amp;hl=en&amp;lr=&amp;sa=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xroads.virginia.edu/~ma02/harris/utc/images/emily.jpg&amp;imgrefurl=http://xroads.virginia.edu/~ma02/harris/utc/lesson1_emily.html&amp;h=566&amp;w=550&amp;sz=99&amp;tbnid=H9JiTWOoItEJ:&amp;tbnh=131&amp;tbnw=127&amp;start=13&amp;prev=/images?q=fugitive+slave+act&amp;hl=en&amp;lr=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urnaltimes.com/bhm/assets/images/DRED-SCOTT.jpg&amp;imgrefurl=http://www.journaltimes.com/bhm/html/dred_scott.html&amp;h=427&amp;w=350&amp;sz=85&amp;tbnid=bxFlIk6KAnAJ:&amp;tbnh=122&amp;tbnw=100&amp;start=1&amp;prev=/images?q=dred+scott&amp;hl=en&amp;lr=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43000" y="3049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ctional Conflict Increas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419560" y="1336680"/>
            <a:ext cx="42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ions mounting over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exation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an War (new terri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2819520"/>
            <a:ext cx="501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Popular Sovereignt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457200" y="4267080"/>
            <a:ext cx="3352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Wilmot Provis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595520" y="3505320"/>
            <a:ext cx="58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he people choose if they want slaves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807200" y="4994280"/>
            <a:ext cx="589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Wilmot (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ned slavery in land acquired from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rn states threaten to secede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380880" y="304920"/>
            <a:ext cx="406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lection of 1860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27160" y="1031760"/>
            <a:ext cx="639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s Divid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hen Douglas – Northern Democ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reckinridge – Southern Democ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tutional Unionist Party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ublican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6160" y="297180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Lincoln Wi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685800" y="3657600"/>
            <a:ext cx="286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ecession 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90000" y="4343400"/>
            <a:ext cx="576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Lincol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rners fear losing al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Dec. 1860 – S.C. Secedes from the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ates will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derate States of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efferson Davis – Elected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9368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South Carolina State Map"/>
          <p:cNvPicPr/>
          <p:nvPr/>
        </p:nvPicPr>
        <p:blipFill>
          <a:blip r:embed="rId1"/>
          <a:stretch/>
        </p:blipFill>
        <p:spPr>
          <a:xfrm>
            <a:off x="5562720" y="2895480"/>
            <a:ext cx="32572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609480" y="533520"/>
            <a:ext cx="406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lection of 1848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886760" y="1336680"/>
            <a:ext cx="46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s – Lewis C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gs – Zachary 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Soil Party – Martin Van B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00240" y="255600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aylor wins th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28600" y="3124080"/>
            <a:ext cx="8686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Slavery continues to cause troubl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598400" y="388620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ossible breakup of the Union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292760" y="441972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litionists vs. Fire-e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457200" y="5029200"/>
            <a:ext cx="29908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enry Cla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niel Webste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John C. Calhou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11" descr="Daniel%2520Web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4952880"/>
            <a:ext cx="10681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emi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4572000"/>
            <a:ext cx="1993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457200" y="990720"/>
            <a:ext cx="6219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Compromise of 1850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672200" y="1752480"/>
            <a:ext cx="661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fornia enters as a fre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trade abolished in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exico &amp; Utah created – Popular Sovereig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gh Fugitive Slav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01200" y="0"/>
            <a:ext cx="69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ylor Die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ard Fillmore takes over, favors a new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comp1850"/>
          <p:cNvPicPr/>
          <p:nvPr/>
        </p:nvPicPr>
        <p:blipFill>
          <a:blip r:embed="rId1"/>
          <a:stretch/>
        </p:blipFill>
        <p:spPr>
          <a:xfrm>
            <a:off x="1219320" y="3352680"/>
            <a:ext cx="601956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457200" y="304920"/>
            <a:ext cx="5791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Election of 185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49600" y="1219320"/>
            <a:ext cx="36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s – Franklin Pi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gs – Winfield S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Soil – John 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836640" y="243828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Franklin Pierce wi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380880" y="3124080"/>
            <a:ext cx="4667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Uncle Tom's Cabi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1447920" y="4038480"/>
            <a:ext cx="4114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arriet Beecher Stow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457200" y="5029200"/>
            <a:ext cx="539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Kansas-Nebraska Ac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884960" y="5832360"/>
            <a:ext cx="64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en Douglas wants a Northern 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Kansas &amp; Nebraska Territories (Pop. Sov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380880" y="304920"/>
            <a:ext cx="46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"Bleeding Kansas"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90960" y="990720"/>
            <a:ext cx="618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erners &amp; Southerners move into new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ouri crosses into Kansas to vote illeg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-Slave legislation elected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s elect their own Go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en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685800" y="304812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John Brow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292400" y="3657600"/>
            <a:ext cx="58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mob attack on Lawrence, Ka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s 5 men in the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tawatomie Massacr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304920" y="4952880"/>
            <a:ext cx="5324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Brooks-Sumner Affai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444680" y="5670720"/>
            <a:ext cx="56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Sumner insults Andrew But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on Brooks assaults Sumner with a 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New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380880" y="380880"/>
            <a:ext cx="535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Republican Part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77880" y="1184400"/>
            <a:ext cx="59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Democrats,Whigs &amp; Free-So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ed the expansion of sla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304920" y="2209680"/>
            <a:ext cx="4066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lection of 1856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143000" y="3048120"/>
            <a:ext cx="61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s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mes Buchanan – FROM PA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gs – Millard Fill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ublicans – John C. Frem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46640" y="423216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Buchanan wi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304920" y="4876920"/>
            <a:ext cx="6000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Lecompton Constitu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276200" y="5451480"/>
            <a:ext cx="670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still in Ka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-slave legislation 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en Douglas opposes it – loses souther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914400" y="304920"/>
            <a:ext cx="5410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On the Brink of War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380880" y="1523880"/>
            <a:ext cx="5143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The Dred Scott Ca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78240" y="2286000"/>
            <a:ext cx="81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d Scott – slave owned by John Emerson (army surge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 sues for freedom on grounds that he was taken to free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is against S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295280" y="3733920"/>
            <a:ext cx="285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Roger B. Tane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594080" y="4419720"/>
            <a:ext cx="59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ef Justice of the Supreme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s are not citizens &amp; therefore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s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Go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no authority over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stop the expansion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ouri Compromise is unconstitution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DRED-SCOT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838080"/>
            <a:ext cx="1143000" cy="139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Taney"/>
          <p:cNvPicPr/>
          <p:nvPr/>
        </p:nvPicPr>
        <p:blipFill>
          <a:blip r:embed="rId3"/>
          <a:stretch/>
        </p:blipFill>
        <p:spPr>
          <a:xfrm>
            <a:off x="6477120" y="3124080"/>
            <a:ext cx="1222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457200" y="228600"/>
            <a:ext cx="4543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Lincoln &amp; Dougla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58400" y="914400"/>
            <a:ext cx="742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8 Illinois Senat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coln – Republican; Douglas – Democrat (Little Gi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debates take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ussing Dred Scott decision &amp; slavery in terr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port Doctrine (Dougl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ople can stop slavery by not passing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glas wins the election, but Lincoln becomes famo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Lincoln-Douglas Debates"/>
          <p:cNvPicPr/>
          <p:nvPr/>
        </p:nvPicPr>
        <p:blipFill>
          <a:blip r:embed="rId1"/>
          <a:stretch/>
        </p:blipFill>
        <p:spPr>
          <a:xfrm>
            <a:off x="380880" y="3657600"/>
            <a:ext cx="3962520" cy="296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ap of Illinois showing&#10;Debate Sites"/>
          <p:cNvPicPr/>
          <p:nvPr/>
        </p:nvPicPr>
        <p:blipFill>
          <a:blip r:embed="rId2"/>
          <a:stretch/>
        </p:blipFill>
        <p:spPr>
          <a:xfrm>
            <a:off x="5486400" y="3657600"/>
            <a:ext cx="2247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304920" y="228600"/>
            <a:ext cx="4628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John Brown's Rai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28120" y="1066680"/>
            <a:ext cx="70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of men capture Federal Arsenal at Harpers F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to arm the slaves &amp; start an upr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ops call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d by Robert E. Le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take the ar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1360" y="335268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Brown is convicted &amp; han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7080" y="3886200"/>
            <a:ext cx="57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id will further divide the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rth makes Brown a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trust, added hatred, thoughts of s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3:42:30Z</dcterms:created>
  <dc:creator>nalbert</dc:creator>
  <dc:description/>
  <dc:language>en-US</dc:language>
  <cp:lastModifiedBy>PA Department of Education Classrooms for the Future</cp:lastModifiedBy>
  <dcterms:modified xsi:type="dcterms:W3CDTF">2012-10-18T15:39:22Z</dcterms:modified>
  <cp:revision>16</cp:revision>
  <dc:subject/>
  <dc:title>PowerPoint Presentation</dc:title>
</cp:coreProperties>
</file>